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255-ADA5-4D9F-B2F5-C8DAE65F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417-64A3-4C85-A0EC-A7F42A9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282-7240-4741-9663-2836CB88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97B-9B56-4CB6-9791-0C6FC5D9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25E-B2B5-4202-8898-E21643B0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825-9B2D-4229-9660-5A2010D3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19D-F23F-401B-A3C4-D4E1076B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E72-5FD9-4EA7-BEB8-D47D2AE8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6DC-BA57-414F-A46F-8A88BC8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46E-3391-49A0-954E-F300DE7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72F-4851-4C61-9F1E-1132950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B2E-52EE-4867-A3D5-3814336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2DB-8D5D-4609-8EAE-237CF8BC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8440" t="46877" r="28908" b="26042"/>
          <a:stretch/>
        </p:blipFill>
        <p:spPr>
          <a:xfrm>
            <a:off x="4419720" y="4156200"/>
            <a:ext cx="114300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27:20Z</dcterms:created>
  <dc:creator>Patrick J. Mooney</dc:creator>
  <dc:description/>
  <dc:language>en-US</dc:language>
  <cp:lastModifiedBy>Patrick J. Mooney</cp:lastModifiedBy>
  <dcterms:modified xsi:type="dcterms:W3CDTF">2010-02-22T19:34:41Z</dcterms:modified>
  <cp:revision>2</cp:revision>
  <dc:subject/>
  <dc:title>Slide 1</dc:title>
</cp:coreProperties>
</file>